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FCE-4329-4E0C-8F0A-820E0214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F83-33F6-4C56-9D6E-50CD31A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82E-BB44-4023-BBEB-606F47E7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546-F313-4C0B-B92C-3086613A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F10-C9E6-4277-9F93-7809427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6C5-2E43-46F7-B83B-E803402B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7CD-FBC5-4A8F-85ED-328E00D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1A7-88E8-403B-BAA5-6C8406F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AC0-378A-4F4B-8432-D7B98D60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115-34E0-4BB2-A3BA-C47DEE99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1A8-3D09-4025-A1E7-074B3F3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021-4AFB-461C-B79D-A9E8100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928F-ECCA-48D5-8F78-E5B18C5E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en.wikipedia.org/wiki/Image:Archimedes_Heat_Ray_conceptual_diagram.svg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en.wikipedia.org/wiki/Image:Archimedes-screw_one-screw-threads_with-ball_3D-view_animated_small.gif" TargetMode="Externa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cs.drexel.edu/~crorres/Archimedes/Claw/harris/anim-b.mov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44" name="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Image:Domenico-Fetti Archimedes 1620.jpg"/>
          <p:cNvPicPr/>
          <p:nvPr/>
        </p:nvPicPr>
        <p:blipFill>
          <a:blip r:embed="rId9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rchimedes may have used mirrors acting as a parabolic reflector to burn ships attacking Syracu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1" name="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09" name="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The Archimedes' screw can raise water efficiently.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Ineson</cp:lastModifiedBy>
  <dcterms:modified xsi:type="dcterms:W3CDTF">2011-06-06T00:05:08Z</dcterms:modified>
  <cp:revision>18</cp:revision>
  <dc:subject/>
  <dc:title>Slide 1</dc:title>
</cp:coreProperties>
</file>